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584-984B-4E9D-8827-48C55A49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7D0-F5D7-4DE1-A79E-1FF99923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96B-245F-49FB-845A-057581AA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C0E-FCE3-46F6-AB45-DF87242F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C10-41C8-425B-9ED4-4EDE4DD4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E67-098D-44CF-A778-65685B26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E7F-5A2B-4364-9D4C-DC3308D2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97CC-CFC3-4552-85C1-8C40B177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35A-2E51-43F9-8FC9-3141FC06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061-FCCA-4279-B7F0-7D12128B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41A-6265-4B7E-AC1D-B33A180B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9EC-C72A-418E-B456-527B50E9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92B5-7863-42EF-8E55-5254D6FD5C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Jason Bair</cp:lastModifiedBy>
  <dcterms:modified xsi:type="dcterms:W3CDTF">2011-08-15T23:52:26Z</dcterms:modified>
  <cp:revision>50</cp:revision>
  <dc:subject/>
  <dc:title>TITLE</dc:title>
</cp:coreProperties>
</file>